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92E7-6933-4005-A121-17199379502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FE73-5505-42B4-8057-4F85EB11BEE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1D0E-14C8-4A30-949B-86642198E33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489F-C003-46F1-9093-37CC61C91B5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E34D-B2F4-4130-81E6-2B59FB0D1A2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2F99-EF34-455F-A425-617D10A2AEB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20F3-9212-461B-975A-42888A69A98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6197-42DB-41F8-8986-87614547FA93}"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4906-B9A7-4EDA-BE57-D7C69567F6FC}"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2B5B-B924-4A3D-9879-78569708DEA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CF60-026C-40FC-AA57-77D6505BCD8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1FAF-A072-47D7-977A-FB27EDA1406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470A-CFB0-43CD-89BF-E1996613046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DF1F-C9C1-4C7D-946E-E46D8F31F8A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1367-6130-42C3-9296-9CBD8EF12BE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BA99-86AC-425B-8007-11A21185D43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88E5-FCD6-4501-860E-F05A99A1608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0CAB-27F9-464C-8165-8FCBAB7EE47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8BCB-37FD-45A7-A90E-C7E971AF598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F37E-C1C5-4D7E-BC70-6F432F55F39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E2EC-A25B-4552-8B65-DA5325C59DD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017A4-CDFE-4E23-B33F-B352F0CCA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8169B-04D6-419B-BA6A-C1AA98CC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163BC-FFEC-448F-8CF5-748C113CD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E83F1-8081-4DFB-A4B4-7652CA44C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23B6F-5614-421D-95FB-B5C107173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FB0BE-F112-427B-B6FA-5CE04B083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5E7D8-0AE1-4F04-B448-0871CDA27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E2B2F-FE9B-41A5-8325-EF29B8815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AD2DD-3610-475A-915E-1743B32B1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C0CF0-1F8F-4B2E-9D86-AFE5FE088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8F369-5D02-4E81-BB32-63A7DFB69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523D5-5ADF-4DC9-8430-2311F8DF5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70D7-5883-4332-913E-76B6098C1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FCD5D-1B6D-4893-9C41-821FBDE6D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1754-B787-495B-88A9-6279ABEBB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94323-0827-41CB-9823-43B2E6914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315B0-57A4-4B5C-8D60-F332B5308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4D6CB-0276-4A64-9547-D541F2C80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3C124-A1BA-4732-A647-D8C98EADC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43B45-F88D-4973-9B10-275A29BD9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5FCC4-B0C2-47BB-BD2D-62689180F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48B35-3EAA-4A6F-A45B-C483134D5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A531-A132-4BA5-8DD3-8571C138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0145F-7F61-423D-983B-87F92C0C9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83630-D7FD-49D0-8C77-9A5C01425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C784A-56A5-48F9-93F1-F9460287D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B63F2-6B58-4ED5-8E57-494254D90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99AB0-1506-4DC9-BBEB-16D2194E3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D2031-0887-4F9D-B7A2-FA94028E13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E55EC-DC0F-49B4-BA71-E368D541E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8B91E2-EA73-4B92-AF99-3847F64D1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A33E9-D532-4048-A8C5-22341CA79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6B41D-E04B-4BBA-BB96-EB452963A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A3C0-2B97-4691-A59D-C3BE3DE85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710E0-D296-4369-86D7-81852F2D3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1CDD6-307B-42DA-A90B-2C9950EB7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70679-69DF-40CE-BF4B-DD02787B8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B46A4-75C4-4660-BAF8-D0361242C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63B72-FDE3-4231-956F-081FBBC75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526F4-6461-4F58-863B-4F2285EC3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6921B-F548-4181-BD33-E57FFEEEC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44BEBC-3E9B-462E-B425-B773ADE564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460757-FA91-4DE3-86B8-261B7315E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4BDAB-3575-4152-AF3D-5AD3FD1E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55187-1583-4952-BC2A-1C85D4017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9F67-9295-4F6A-9FC0-00BD9B91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F169-B0DF-4D9C-9120-49B8310D8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66AC-67E2-4AC9-AE24-B4DBC21A2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8A00-A9AF-4059-93C8-1E978291CE9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BF34-94F4-427E-B186-8EAB179159A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9CCF-E746-4A81-B568-D92DBFF6126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5D1C-1105-4F42-A50A-54BA1786ED4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8448480" cy="20113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onroe High Schoo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June 2009</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iting Workshop</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have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ni skills lesson</a:t>
            </a:r>
            <a:endParaRPr b="0" lang="en-US" sz="22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ased on map</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lated to grammar, mechanics, conventions, style, vocabulary</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dels shared by teacher</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stained Writing</a:t>
            </a:r>
            <a:endParaRPr b="0" lang="en-US" sz="22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ppropriate topics – free writing for students</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signed topics </a:t>
            </a:r>
            <a:endParaRPr b="0" lang="en-US" sz="1900" spc="-1" strike="noStrike">
              <a:solidFill>
                <a:srgbClr val="000000"/>
              </a:solidFill>
              <a:latin typeface="Constantia"/>
            </a:endParaRPr>
          </a:p>
          <a:p>
            <a:pPr lvl="2" marL="905040" indent="-24372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quired styles of writing </a:t>
            </a:r>
            <a:endParaRPr b="0" lang="en-US" sz="1900" spc="-1" strike="noStrike">
              <a:solidFill>
                <a:srgbClr val="000000"/>
              </a:solidFill>
              <a:latin typeface="Constantia"/>
            </a:endParaRPr>
          </a:p>
          <a:p>
            <a:pPr marL="270000" indent="-27000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iting Workshop</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Conferen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talking with student on bi-weekly ba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ment of writing skills, understanding of writing process and other skills from the map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maintains records of conferen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sets new goals for next conference based on needs seen in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 Keeping</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designs format for recor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grade boo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check li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log for narrative com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rubric designed to assess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keeps portfolio of writing samp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submits required writing assignments for gradin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ical Day</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arrive; attendance; e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ments are on board along with names of those who will confere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skills lesson occu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workshop begi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students writ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conferences with those list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fore bell rings, teacher wraps up with any additional information</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Assignment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on topic cho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in an assigned sty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ent wri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mmar assess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eds</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journals (college lined noteboo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skills less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cabulary to be instruc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record keeping materi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ubr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assessm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hedule</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day, Wednesday, Friday – reading works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uesday, Thursday – writing works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ernate week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veloping Mini Skills Lessons</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d samples of paragraphs to use as mode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agraphs are always below reading level so comprehension can be focus NOT vocabular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d samples that will work for student guided pract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ut on same sheet; do both in same d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mple Lesson</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l:  Main Idea</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ture, both fiction and nonfiction, is rife with themes.  Books and articles rarely promote just one main idea but rather several themes for readers to ponder and infer. Themes are different than plots. Plot just tells what happens in the narrative. Themes are underlying ideas, morals and lessons that give the story its texture, depth and mean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pt</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mple Lesso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pt:   Main Idea,  Students read this on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termining important ideas and information in text is central to making sense of reading and moving toward insight.  When teaching the strategy of determining importance, nonfiction is often used. Nonfiction reading is reading to learn.  Simply put, readers of nonfiction have to decide and remember what is important in the texts they read if they are going to learn anything from them.</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on Negotiabl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59200" indent="-259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  </a:t>
            </a:r>
            <a:r>
              <a:rPr b="0" lang="en-US" sz="4400" spc="-1" strike="noStrike">
                <a:solidFill>
                  <a:srgbClr val="000000"/>
                </a:solidFill>
                <a:latin typeface="Constantia"/>
              </a:rPr>
              <a:t>What can you absolutely </a:t>
            </a:r>
            <a:r>
              <a:rPr b="0" lang="en-US" sz="4400" spc="-1" strike="noStrike">
                <a:solidFill>
                  <a:srgbClr val="ff0000"/>
                </a:solidFill>
                <a:latin typeface="Constantia"/>
              </a:rPr>
              <a:t>NOT</a:t>
            </a:r>
            <a:r>
              <a:rPr b="0" lang="en-US" sz="4400" spc="-1" strike="noStrike">
                <a:solidFill>
                  <a:srgbClr val="000000"/>
                </a:solidFill>
                <a:latin typeface="Constantia"/>
              </a:rPr>
              <a:t> live without when teaching English/Language Arts?</a:t>
            </a:r>
            <a:endParaRPr b="0" lang="en-US" sz="4400" spc="-1" strike="noStrike">
              <a:solidFill>
                <a:srgbClr val="000000"/>
              </a:solidFill>
              <a:latin typeface="Constantia"/>
            </a:endParaRPr>
          </a:p>
          <a:p>
            <a:pPr marL="259200" indent="-259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59200" indent="-2592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   </a:t>
            </a:r>
            <a:r>
              <a:rPr b="0" lang="en-US" sz="4400" spc="-1" strike="noStrike">
                <a:solidFill>
                  <a:srgbClr val="ff0000"/>
                </a:solidFill>
                <a:latin typeface="Constantia"/>
              </a:rPr>
              <a:t>Why?</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i Writing Skills Lesson</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riting style:  have most of style written then just add the beginning or end in front of students.  Explain sty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ctice developing skill in class; whole group, small group or individually.  NO GRADE tak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actice next day as individuals.  Third day students can write using style for a formative assess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Workshop</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st ha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i skills less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ased on map</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lated to theme, topic, subject being studied if possibl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stained Silent Reading</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igh quality literature</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ppropriate literature based on student level</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me responses throughout quarter</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Workshop</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Conferen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talking with student on bi-weekly basi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ment of fluency, comprehension, other skills from the map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r maintains records of conferen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 sets new goals for next conference based on needs seen in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Workshop</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additional choices:</a:t>
            </a:r>
            <a:endParaRPr b="0" lang="en-US" sz="2400" spc="-1" strike="noStrike">
              <a:solidFill>
                <a:srgbClr val="000000"/>
              </a:solidFill>
              <a:latin typeface="Constantia"/>
            </a:endParaRPr>
          </a:p>
          <a:p>
            <a:pPr lvl="2" marL="859320" indent="-2311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iterature Circles</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mall groups reading same title book and discussing</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roups answer variety of questions together that leads discussion</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roup records information to share later with teacher</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59320" indent="-2311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iscussion Groups</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mall groups reading different titles and discussing</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mpare/contrast variety of literary elements based on teacher choice of elements needing assessed</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59320" indent="-2311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roup Conferences</a:t>
            </a:r>
            <a:endParaRPr b="0" lang="en-US" sz="1900" spc="-1" strike="noStrike">
              <a:solidFill>
                <a:srgbClr val="000000"/>
              </a:solidFill>
              <a:latin typeface="Constantia"/>
            </a:endParaRPr>
          </a:p>
          <a:p>
            <a:pPr lvl="3" marL="1116000" indent="-196920">
              <a:lnSpc>
                <a:spcPct val="90000"/>
              </a:lnSpc>
              <a:spcBef>
                <a:spcPts val="476"/>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imilar to discussion group except teacher is present assessing</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ord Keeping</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 designs format for recor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grade book</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check li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log for narrative com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rubric designed to assess confere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keep log of books rea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have a response journal for assignment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ical Day</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arrive; attendance; etc.</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ignments are on board along with names of those who will conferenc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i skills lesson occu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ding workshop begins</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 students read their leveled books; other items from assignments list</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 students record book read and pages completed as well as any assignment liste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eacher conferences with those listed</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fore bell rings, teacher wraps up with any additional informatio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Assignments</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 leveled book (MOST conferences come from this boo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d choice book (be careful with thi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ponse to reading</a:t>
            </a:r>
            <a:endParaRPr b="0" lang="en-US" sz="26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y write date and describe initial problem presented; if non fiction describe 3 ideas presented and determine if they are facts or opinions</a:t>
            </a: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about the theme (this is not a formal assignment, just a check to see if student understands theme yet)</a:t>
            </a: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responses are based on </a:t>
            </a:r>
            <a:r>
              <a:rPr b="0" lang="en-US" sz="2400" spc="-1" strike="noStrike">
                <a:solidFill>
                  <a:srgbClr val="ff0000"/>
                </a:solidFill>
                <a:latin typeface="Constantia"/>
              </a:rPr>
              <a:t>PREVIOUSLY</a:t>
            </a:r>
            <a:r>
              <a:rPr b="0" lang="en-US" sz="2400" spc="-1" strike="noStrike">
                <a:solidFill>
                  <a:srgbClr val="000000"/>
                </a:solidFill>
                <a:latin typeface="Constantia"/>
              </a:rPr>
              <a:t> taught skills, strategies, genres, etc.</a:t>
            </a: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ed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riety of book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sets of literature circle boo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urnals/response logs (college ruled noteboo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ment sheets for confer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ni skills less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essments for map skill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15:35:31Z</dcterms:created>
  <dc:creator>elolli</dc:creator>
  <dc:description/>
  <dc:language>en-US</dc:language>
  <cp:lastModifiedBy>elolli</cp:lastModifiedBy>
  <dcterms:modified xsi:type="dcterms:W3CDTF">2009-06-07T16:52:24Z</dcterms:modified>
  <cp:revision>10</cp:revision>
  <dc:subject/>
  <dc:title>Secondary Balanced Literacy</dc:title>
</cp:coreProperties>
</file>